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CF76-9C49-49FF-A84D-680DFC899F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48ED-C41C-4C2E-B7E0-48AAA1CB4A47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218E-D19C-41FB-9B67-A38141943B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1C92-2A29-4A06-B3D5-4E63ABEF7B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6ED9-0A7C-4F0D-9987-43E3A44AB6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2399-1C81-4474-BA05-6C4B19E784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9146-BC83-42D0-951E-7EE6264E56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A33F-D172-42B5-9AD5-2229D2C8F9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9F07-F503-48B5-97E2-1FB6467634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E41A-FAE0-4EB2-9AA6-DF8DDAA619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54D8-D0B9-443D-B2B0-E9BECE4166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EA3C-D680-4894-9970-E1460520C4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916-C63F-49F8-BB87-22750B7A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605-DD7A-4C35-A345-80E4AC72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A39-82D4-4DF1-9B5F-595DB996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8B0-B313-42E8-B2B9-46FA696D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EA5-F5D8-47E6-8921-0D085C33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978-57A0-467A-BF9D-A8F98791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A53-9B61-45B2-80C5-33308D8F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80F-7C04-4A6F-9760-E762381F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C24-A6AA-4078-A5B4-CC87DBE7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7FE2-2170-4CFA-9223-74EF2D07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743-55FD-478A-9FA0-00A563A9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1A4-B0E4-44F3-9717-21B712E7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C562-B97C-4A11-BE29-F133FCB1ED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4E76-13FB-466B-AA82-937159521940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youtube.com/watch?v=hiVzTGKf3IA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raprace.n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youtube.com/watch?v=Fub7pkO-KL4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mountains.tos.ru/kopylov/pict4/panorama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49" name="Rechte verbindingslijn 3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rcRect l="0" t="17564" r="0" b="18007"/>
          <a:stretch/>
        </p:blipFill>
        <p:spPr>
          <a:xfrm>
            <a:off x="15840" y="2714760"/>
            <a:ext cx="9056880" cy="1357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228600" y="639756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hiVzTGKf3IA</a:t>
            </a:r>
            <a:r>
              <a:rPr b="0" lang="en-US" sz="1200" spc="-1" strike="noStrike" u="sng">
                <a:solidFill>
                  <a:srgbClr val="376092"/>
                </a:solidFill>
                <a:uFillTx/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logo-promo-2.jpg"/>
          <p:cNvPicPr/>
          <p:nvPr/>
        </p:nvPicPr>
        <p:blipFill>
          <a:blip r:embed="rId4"/>
          <a:stretch/>
        </p:blipFill>
        <p:spPr>
          <a:xfrm>
            <a:off x="6553080" y="5068800"/>
            <a:ext cx="22100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mountains.tos.ru/kopylov/pict4/panorama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98" name="Rechte verbindingslijn 3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54061"/>
                </a:solidFill>
                <a:latin typeface="Century Gothic"/>
              </a:rPr>
              <a:t>Support Climb for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437920"/>
            <a:ext cx="5105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Evenementenvergunnin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Verzekering (ongevallen/schade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EHB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Startnumm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Aandenken (diploma met tijdregistratie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Website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entury Gothic"/>
                <a:hlinkClick r:id="rId2"/>
              </a:rPr>
              <a:t>www.traprace.nl</a:t>
            </a: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tijdregistratiech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start finis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tijdregistratiebor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energy drink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Vrijwilli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 </a:t>
            </a: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fotograaf filmploe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Banners Climb for Lif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Post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c11"/>
                </a:solidFill>
                <a:latin typeface="Century Gothic"/>
              </a:rPr>
              <a:t>Trapstick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1e1c11"/>
                </a:solidFill>
                <a:latin typeface="Century Gothic"/>
              </a:rPr>
              <a:t>Ppkl;/Pl.;.,m;l,0p[]- …,µ~≥bv.hkmn≥bnhb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e1c11"/>
                </a:solidFill>
                <a:latin typeface="Century Gothic"/>
              </a:rPr>
              <a:t>Na afloop social ev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56400" indent="-13716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rcRect l="0" t="17558" r="0" b="18023"/>
          <a:stretch/>
        </p:blipFill>
        <p:spPr>
          <a:xfrm>
            <a:off x="65160" y="6353280"/>
            <a:ext cx="267156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mountains.tos.ru/kopylov/pict4/panorama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103" name="Rechte verbindingslijn 3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54061"/>
                </a:solidFill>
                <a:latin typeface="Century Gothic"/>
              </a:rPr>
              <a:t>Waarom een event met Cf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2"/>
          <a:srcRect l="0" t="17558" r="0" b="18023"/>
          <a:stretch/>
        </p:blipFill>
        <p:spPr>
          <a:xfrm>
            <a:off x="65160" y="6353280"/>
            <a:ext cx="2671560" cy="399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6840" y="2514600"/>
            <a:ext cx="79246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Promotie van een </a:t>
            </a:r>
            <a:r>
              <a:rPr b="1" lang="nl-NL" sz="1800" spc="-1" strike="noStrike">
                <a:solidFill>
                  <a:srgbClr val="1e1c11"/>
                </a:solidFill>
                <a:latin typeface="Century Gothic"/>
              </a:rPr>
              <a:t>goede gezond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Voor jezelf en anderen: </a:t>
            </a:r>
            <a:r>
              <a:rPr b="1" lang="nl-NL" sz="1800" spc="-1" strike="noStrike">
                <a:solidFill>
                  <a:srgbClr val="1e1c11"/>
                </a:solidFill>
                <a:latin typeface="Century Gothic"/>
              </a:rPr>
              <a:t>Giving back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Een activiteit met inhou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Samen trainen, beleven &amp; prester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Stimuleer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42800" indent="-26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Verbondenheid &amp; maatschappelijke betrokken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42800" indent="-26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Gezondheid &amp; Bes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‘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Exposure’ beperkt door ANBI verkla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inhoud 7"/>
          <p:cNvSpPr/>
          <p:nvPr/>
        </p:nvSpPr>
        <p:spPr>
          <a:xfrm>
            <a:off x="214200" y="4952880"/>
            <a:ext cx="85010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e1c11"/>
                </a:solidFill>
                <a:latin typeface="Century Gothic"/>
              </a:rPr>
              <a:t>Climb for Life </a:t>
            </a:r>
            <a:r>
              <a:rPr b="0" lang="nl-NL" sz="2000" spc="-1" strike="noStrike">
                <a:solidFill>
                  <a:srgbClr val="1e1c11"/>
                </a:solidFill>
                <a:latin typeface="Century Gothic"/>
              </a:rPr>
              <a:t>brengt </a:t>
            </a:r>
            <a:r>
              <a:rPr b="1" lang="nl-NL" sz="2000" spc="-1" strike="noStrike">
                <a:solidFill>
                  <a:srgbClr val="1e1c11"/>
                </a:solidFill>
                <a:latin typeface="Century Gothic"/>
              </a:rPr>
              <a:t>Gemak</a:t>
            </a:r>
            <a:r>
              <a:rPr b="0" lang="nl-NL" sz="2000" spc="-1" strike="noStrike">
                <a:solidFill>
                  <a:srgbClr val="1e1c11"/>
                </a:solidFill>
                <a:latin typeface="Century Gothic"/>
              </a:rPr>
              <a:t> en </a:t>
            </a:r>
            <a:r>
              <a:rPr b="1" lang="nl-NL" sz="2000" spc="-1" strike="noStrike">
                <a:solidFill>
                  <a:srgbClr val="1e1c11"/>
                </a:solidFill>
                <a:latin typeface="Century Gothic"/>
              </a:rPr>
              <a:t>Authentieke Publiciteit  </a:t>
            </a:r>
            <a:r>
              <a:rPr b="0" lang="nl-NL" sz="2000" spc="-1" strike="noStrike">
                <a:solidFill>
                  <a:srgbClr val="1e1c11"/>
                </a:solidFill>
                <a:latin typeface="Century Gothic"/>
              </a:rPr>
              <a:t>door het faciliteren van de gehele organisat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 indent="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e1c11"/>
                </a:solidFill>
                <a:latin typeface="Century Gothic"/>
                <a:ea typeface="ＭＳ Ｐゴシック"/>
              </a:rPr>
              <a:t>(vergunning, veiligheid, EHBO, inschrijvingen, tijdregistratie, communicati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304920" y="5257800"/>
            <a:ext cx="830556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mountains.tos.ru/kopylov/pict4/panorama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54" name="Rechte verbindingslijn 3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4061"/>
              </a:solidFill>
              <a:latin typeface="Century Gothic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1e1c11"/>
                </a:solidFill>
                <a:latin typeface="Century Gothic"/>
              </a:rPr>
              <a:t>“</a:t>
            </a:r>
            <a:r>
              <a:rPr b="1" lang="nl-NL" sz="3200" spc="-1" strike="noStrike">
                <a:solidFill>
                  <a:srgbClr val="1e1c11"/>
                </a:solidFill>
                <a:latin typeface="Century Gothic"/>
              </a:rPr>
              <a:t>Breng Daniel naar de top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9 man organiseren (belangeloos) het “nationaal kampioenschap TRAPRACE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voor de aanschaf van een Cell Sor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door de Daniel den Hoed (EUR 175.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rcRect l="0" t="17558" r="0" b="18023"/>
          <a:stretch/>
        </p:blipFill>
        <p:spPr>
          <a:xfrm>
            <a:off x="65160" y="6353280"/>
            <a:ext cx="2671560" cy="399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rcRect l="0" t="17564" r="0" b="18007"/>
          <a:stretch/>
        </p:blipFill>
        <p:spPr>
          <a:xfrm>
            <a:off x="15840" y="1295280"/>
            <a:ext cx="905688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98400" y="819000"/>
            <a:ext cx="77472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mountains.tos.ru/kopylov/pict4/panorama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63" name="Rechte verbindingslijn 3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4061"/>
                </a:solidFill>
                <a:latin typeface="Century Gothic"/>
              </a:rPr>
              <a:t>Daniel den Ho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c11"/>
                </a:solidFill>
                <a:latin typeface="Century Gothic"/>
              </a:rPr>
              <a:t>Wereldberoemd Kanker Onderzoek Centrum in Rotterdam doet baanbrekend werk op gebied van stamcelonderzo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c11"/>
                </a:solidFill>
                <a:latin typeface="Century Gothic"/>
              </a:rPr>
              <a:t>Onder supervisie van prof. dr. Wolter Oosterhuis zijn reeds vele doorbraken gemaak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c11"/>
                </a:solidFill>
                <a:latin typeface="Century Gothic"/>
              </a:rPr>
              <a:t>Het onderzoekscentrum is grotendeels afhankelijk van dona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c11"/>
                </a:solidFill>
                <a:latin typeface="Century Gothic"/>
              </a:rPr>
              <a:t>Onderdeel van Universitair Medisch Centrum Rot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rcRect l="0" t="17558" r="0" b="18023"/>
          <a:stretch/>
        </p:blipFill>
        <p:spPr>
          <a:xfrm>
            <a:off x="65160" y="6353280"/>
            <a:ext cx="2671560" cy="399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3"/>
          <a:stretch/>
        </p:blipFill>
        <p:spPr>
          <a:xfrm>
            <a:off x="5572080" y="214200"/>
            <a:ext cx="32162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mountains.tos.ru/kopylov/pict4/panorama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69" name="Rechte verbindingslijn 3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54061"/>
                </a:solidFill>
                <a:latin typeface="Century Gothic"/>
              </a:rPr>
              <a:t>Do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EUR 175.000 voor de aanschaf van een cell sor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kankerstamcellen</a:t>
            </a: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iso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e1c11"/>
                </a:solidFill>
                <a:latin typeface="Century Gothic"/>
              </a:rPr>
              <a:t>cell sor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Oktober 2010 einde campag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2"/>
          <a:srcRect l="0" t="17558" r="0" b="18023"/>
          <a:stretch/>
        </p:blipFill>
        <p:spPr>
          <a:xfrm>
            <a:off x="65160" y="6353280"/>
            <a:ext cx="2671560" cy="399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erasmusmc.nl/47463/98694/OosterhuisPI.jpg"/>
          <p:cNvPicPr/>
          <p:nvPr/>
        </p:nvPicPr>
        <p:blipFill>
          <a:blip r:embed="rId3"/>
          <a:stretch/>
        </p:blipFill>
        <p:spPr>
          <a:xfrm>
            <a:off x="500040" y="3591000"/>
            <a:ext cx="1419120" cy="1819080"/>
          </a:xfrm>
          <a:prstGeom prst="rect">
            <a:avLst/>
          </a:prstGeom>
          <a:ln w="0">
            <a:noFill/>
          </a:ln>
        </p:spPr>
      </p:pic>
      <p:sp>
        <p:nvSpPr>
          <p:cNvPr id="74" name="Down Arrow 9"/>
          <p:cNvSpPr/>
          <p:nvPr/>
        </p:nvSpPr>
        <p:spPr>
          <a:xfrm>
            <a:off x="4343400" y="37720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Down Arrow 10"/>
          <p:cNvSpPr/>
          <p:nvPr/>
        </p:nvSpPr>
        <p:spPr>
          <a:xfrm>
            <a:off x="4343400" y="46483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mountains.tos.ru/kopylov/pict4/panorama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77" name="Rechte verbindingslijn 3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54061"/>
                </a:solidFill>
                <a:latin typeface="Century Gothic"/>
              </a:rPr>
              <a:t>Breng Daniel naar de T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51424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Te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e1c1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Martijn vd Meulen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This is Golf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e1c1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Hubert Braat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Accentur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e1c1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Fernand Molenschot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Starcuisi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e1c1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Jeroen Halfweeg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Smi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e1c1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Menno Bax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Shel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e1c1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Frederik Molenschot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Studio Molenscho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e1c1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Paul van Katwijk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Maverick V.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e1c1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Jaco de Kempenaer 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De Kempenaer Interim Manage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e1c1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Bas van Vugt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900" spc="-1" strike="noStrike">
                <a:solidFill>
                  <a:srgbClr val="1e1c11"/>
                </a:solidFill>
                <a:latin typeface="Century Gothic"/>
              </a:rPr>
              <a:t>Heinek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rcRect l="0" t="17558" r="0" b="18023"/>
          <a:stretch/>
        </p:blipFill>
        <p:spPr>
          <a:xfrm>
            <a:off x="65160" y="6353280"/>
            <a:ext cx="267156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mountains.tos.ru/kopylov/pict4/panorama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82" name="Rechte verbindingslijn 3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54061"/>
                </a:solidFill>
                <a:latin typeface="Century Gothic"/>
              </a:rPr>
              <a:t>Trap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6000"/>
            <a:ext cx="510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Hoge gebouwen in N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Minimaal 5 x corporate e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Juni/juli/Augustus/September/Okto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Opbrengst  5 x EUR 10.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10 juni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Loyens&amp;Loeff R’d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?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Conclusion, Utre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?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Rotterdam Business School, R’d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?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Primagaz (SHV), Zutp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?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Achmea, Groning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?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Carat, Amsterd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? 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Linklaters, Amsterd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? 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Ministerie OCW, Den Ha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2"/>
          <a:srcRect l="0" t="17558" r="0" b="18023"/>
          <a:stretch/>
        </p:blipFill>
        <p:spPr>
          <a:xfrm>
            <a:off x="65160" y="6353280"/>
            <a:ext cx="2671560" cy="399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4724280" y="21337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Fub7pkO-KL4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logo-promo-2.jpg"/>
          <p:cNvPicPr/>
          <p:nvPr/>
        </p:nvPicPr>
        <p:blipFill>
          <a:blip r:embed="rId4"/>
          <a:stretch/>
        </p:blipFill>
        <p:spPr>
          <a:xfrm>
            <a:off x="5486400" y="3124080"/>
            <a:ext cx="33526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mountains.tos.ru/kopylov/pict4/panorama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89" name="Rechte verbindingslijn 3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54061"/>
                </a:solidFill>
                <a:latin typeface="Century Gothic"/>
              </a:rPr>
              <a:t>Trap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259092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200 deelnemers (40 team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3560" indent="-133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Elke deelnemer doneert minimaal EUR 25 of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3560" indent="-133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Elk team doneert EUR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3560" indent="-133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Bedrijfsleven staat garant voor een minimale opbrengst van EUR 10.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3560" indent="-133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5 competiti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e1c11"/>
                </a:solidFill>
                <a:latin typeface="Century Gothic"/>
              </a:rPr>
              <a:t>Combinatie (tijd icm donatie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e1c11"/>
                </a:solidFill>
                <a:latin typeface="Century Gothic"/>
              </a:rPr>
              <a:t>Snelste tij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e1c11"/>
                </a:solidFill>
                <a:latin typeface="Century Gothic"/>
              </a:rPr>
              <a:t>Hoogste donat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e1c11"/>
                </a:solidFill>
                <a:latin typeface="Century Gothic"/>
              </a:rPr>
              <a:t>Support een colleg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e1c11"/>
                </a:solidFill>
                <a:latin typeface="Century Gothic"/>
              </a:rPr>
              <a:t>Leukste outf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33560" indent="-133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Social event, na de traprace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e1c11"/>
                </a:solidFill>
                <a:latin typeface="Century Gothic"/>
              </a:rPr>
              <a:t>Ppkl;/Pl.;.,m;l,0p[]- …,µ~≥bv.hkmn≥bnhb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e1c11"/>
                </a:solidFill>
                <a:latin typeface="Century Gothic"/>
              </a:rPr>
              <a:t>Na afloop social e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rcRect l="0" t="17558" r="0" b="18023"/>
          <a:stretch/>
        </p:blipFill>
        <p:spPr>
          <a:xfrm>
            <a:off x="65160" y="6353280"/>
            <a:ext cx="267156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mountains.tos.ru/kopylov/pict4/panorama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873000"/>
          </a:xfrm>
          <a:prstGeom prst="rect">
            <a:avLst/>
          </a:prstGeom>
          <a:ln w="0">
            <a:noFill/>
          </a:ln>
        </p:spPr>
      </p:pic>
      <p:sp>
        <p:nvSpPr>
          <p:cNvPr id="94" name="Rechte verbindingslijn 3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rcRect l="0" t="17558" r="0" b="18023"/>
          <a:stretch/>
        </p:blipFill>
        <p:spPr>
          <a:xfrm>
            <a:off x="65160" y="6353280"/>
            <a:ext cx="2671560" cy="399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race.jpg"/>
          <p:cNvPicPr/>
          <p:nvPr/>
        </p:nvPicPr>
        <p:blipFill>
          <a:blip r:embed="rId3"/>
          <a:stretch/>
        </p:blipFill>
        <p:spPr>
          <a:xfrm>
            <a:off x="1905120" y="1417680"/>
            <a:ext cx="70754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9:22:15Z</dcterms:created>
  <dc:creator>Menno.Bax</dc:creator>
  <dc:description/>
  <dc:language>en-US</dc:language>
  <cp:lastModifiedBy>Jaco de Kempenaer</cp:lastModifiedBy>
  <dcterms:modified xsi:type="dcterms:W3CDTF">2010-06-08T19:30:26Z</dcterms:modified>
  <cp:revision>17</cp:revision>
  <dc:subject/>
  <dc:title>Slide 1</dc:title>
</cp:coreProperties>
</file>